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72A-41D3-4C45-98F0-9240C28D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27B-90C5-496D-A5A6-C7B68AC6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D0E-34BD-4C37-AB48-D7AF86C5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969-5E20-4C11-8726-0CACB55E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004-5D11-453F-9AA5-EF1E757B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54A-4DB6-4332-97E2-44A73914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5C2-AB8F-49D5-875E-1436D64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539-7F29-4B5A-959F-A0F277C9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485-4710-4835-9471-1E9AC126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2AD-1D62-4255-AF7C-0B16A592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FFE-6473-44DB-981E-ECB4F63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F4E-3252-44EC-BC24-B3ED7683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B18C-322E-4E05-BBDE-71AD9844C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9600" y="1676160"/>
            <a:ext cx="7924680" cy="243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ROGRAMA PRIORITÁRIO DE INVESTIMENTOS 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 INFRA-ESTRUTU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97360" y="4495680"/>
            <a:ext cx="3657600" cy="10670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2007 - 20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3360"/>
            <a:ext cx="228600" cy="65534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41200"/>
            <a:ext cx="228600" cy="65534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SSUPOSTO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90720"/>
            <a:ext cx="8304120" cy="55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ações do OGU/PPI a serem contratadas a partir de 2008 serão definidas pelo MCidades em conjunto com os interessados de modo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 assegurar o atendimento da demanda considerada relevan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O MCidades dará apoio a preparação de projetos para agilizar a execução dos empreendi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ações do OGU/PPI serão executadas com o apoio da CAIX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velocidade de execução das ações não pode comprometer a qualidade dos empreendimentos e o seu desenvolvimento deve apoiar a implementação da Lei 11.4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ão estão consideradas nesta apresentação as ações de água e esgoto da CODEVASF nas bacias do São Francisco e Parnaí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LGUNS DESAF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219320"/>
            <a:ext cx="83041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 implementação das ações reforçar o SNGRH e o PNR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patibilização dos planos diretores municipais com os planos de saneamento, habitação e de b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erência com a  as Leis 11.445 e 11.1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centivo a organização regionalizada da prestação dos serviços de modo a assegurar escala, gestão técnica, efetiva regulação por parte dos titulares e participação e controle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ustentabilidade dos investimentos de manejo de águas pluvias e de manejo de resíduos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590920"/>
            <a:ext cx="8648640" cy="1676160"/>
          </a:xfrm>
          <a:prstGeom prst="rect">
            <a:avLst/>
          </a:prstGeom>
          <a:gradFill rotWithShape="0">
            <a:gsLst>
              <a:gs pos="0">
                <a:srgbClr val="668600">
                  <a:alpha val="80392"/>
                </a:srgbClr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ane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MISSA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508040"/>
            <a:ext cx="830412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scar a universalização do 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mplementar a Lei de Saneamento B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arantir política estável de financiamento, articulando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cursos onerosos e não onero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mover intervenções integradas e sustentáveis nas favelas e assentamentos precários das grandes 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poiar a preparação de projetos, obras e ações de desenvolvimento institucional dos pres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765000"/>
          <a:ext cx="8136000" cy="613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1360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IÇÃO DO DÉFICIT POR TAMANHO DE C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1538280"/>
          <a:ext cx="7848720" cy="4770360"/>
        </p:xfrm>
        <a:graphic>
          <a:graphicData uri="http://schemas.openxmlformats.org/drawingml/2006/table">
            <a:tbl>
              <a:tblPr/>
              <a:tblGrid>
                <a:gridCol w="1312200"/>
                <a:gridCol w="1678680"/>
                <a:gridCol w="1678680"/>
                <a:gridCol w="216000"/>
                <a:gridCol w="1522440"/>
                <a:gridCol w="144072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MICÍLIOS ATENDIDO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ATÉ 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ilhõ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SSOAS ATENDID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É 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ilhõ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DOS DOMICÍLIOS ATEND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,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g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x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destinação adequ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,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TAS PARA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3086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*) PNAD 2005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(**) Estimativa de 2006 do Ministério das C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1520" y="1266840"/>
            <a:ext cx="8915400" cy="231444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Atendimento às demandas relevant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quanto à saúde pública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m baix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reto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avelas e assentamentos precários em regiões metropolitanas, cidades grandes e áreas de impacto de projetos econômicos apoiados pela Un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idades com baixo IDH, alta mortalidade infantil e elevados défic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Apoio à reestruturação da prestação dos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3840" y="3657600"/>
            <a:ext cx="8893080" cy="144792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GTS e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endimento às demandas, por meio de financiamentos a Estados, Municípios e Companhias de 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3840" y="5257800"/>
            <a:ext cx="8893080" cy="137160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FGTS, FAT e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8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uporte a Operações de Mercado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m especial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o financiamento a prestadores priv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700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IORIDADES DE INVESTI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VESTIMENTOS EM SANEAMENTO BÁSICO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181160"/>
          <a:ext cx="8839440" cy="5524560"/>
        </p:xfrm>
        <a:graphic>
          <a:graphicData uri="http://schemas.openxmlformats.org/drawingml/2006/table">
            <a:tbl>
              <a:tblPr/>
              <a:tblGrid>
                <a:gridCol w="1295640"/>
                <a:gridCol w="893520"/>
                <a:gridCol w="4988160"/>
                <a:gridCol w="1662120"/>
              </a:tblGrid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NTE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BJE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VEST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R$ bilhõ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G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neamento integrado em  favelas e assentamentos precários em regiões metropolitanas, cidades grandes e áreas de impacto de projetos econômicos apoiados pela União (P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, esgoto, destinação final de lixo e drenagem urbana em cidades de grande e médio porte (inclui desenvolvimento institucional) (P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, esgoto, destinação final de lixo e drenagem urbana em cidades de até 50 mil habi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GTS / 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iamentos a Estados, Municípios e Companhias de San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iamento a Prestadores Privados e Operações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rapartida de Estados, Municípios e Prest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TAS REGIONAIS DE </a:t>
            </a: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INVESTIMENTO EM SANEAMENTO BÁSICO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0720" y="1833480"/>
          <a:ext cx="685800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33480"/>
                    <a:ext cx="68580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SSUP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268280"/>
            <a:ext cx="830412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operações de financiamento (FGTS/FAT) atenderão as demandas de estados e municípios de qualquer 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ações de saneamento integrado do OGU/PPI em assentamentos precários darão prioridade a áreas consideradas críticas em RMs crí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ações do OGU/PPI a serem contratadas em 2007 serão definida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basicamente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a partir das carteiras de “projetos prontos para licitar” dos programas Pat-Prosanear, HBB, FNHIS, PSARM, PASS-BID e consórcio do Piauí. O “PSARM” de 2007 não será executado pela FUN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3:23:45Z</dcterms:created>
  <dc:creator>MauricioMB</dc:creator>
  <dc:description/>
  <dc:language>en-US</dc:language>
  <cp:lastModifiedBy>MarcosHFM</cp:lastModifiedBy>
  <dcterms:modified xsi:type="dcterms:W3CDTF">2007-01-25T11:50:28Z</dcterms:modified>
  <cp:revision>171</cp:revision>
  <dc:subject/>
  <dc:title>Apresentação do PowerPoint</dc:title>
</cp:coreProperties>
</file>